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C678-2D6C-4AF6-95F9-4776F16E7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CF6-D439-4853-9617-16104F7B2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E0B-6D78-4F53-8145-DFEE74E5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877-AA4A-40BD-9660-C66168B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BFEDE-E6DC-4693-AB11-B9749B57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4A14F-5B30-4763-944B-E2D669B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51F34-1F05-4C0B-9ACE-D8501061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74392-F6BC-4A7E-9EB5-3407F06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5E7C3-5A6B-486C-8CD2-DB07207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2D8C0-C1BF-4BC8-869F-F1506EBB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D0E49-FFC2-4413-B854-C0F6D38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03587-CA40-4B50-8F29-FAD9EEA5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DEBC6-B1EB-4AC7-B0BF-06895529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BBC8-F975-4E54-9735-B3E03873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763-6385-4DB2-BDA4-A164E0EB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B0D53-D9A5-4E01-897E-5E132BA6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35A51-C2D9-4928-9CD5-771B3B15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B8E19-3899-4AAE-9D9C-C21E1D0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14799-AA81-411E-A331-7A06F7A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FF452-9BD9-45AF-B887-61076EEC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CE53E-807A-4960-B8CB-F93B48D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CED5A-E0F7-45B0-93BC-918AC73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6319D-278A-43CD-82A3-0DC8470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2EE1D-3EC6-403D-970F-AA103745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2EFCB-C0AE-410C-838E-CA1547BC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EFD-FB5C-4BE8-9A0C-C5DCB277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60D66-400E-4138-AB53-0B99A7E0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621D7-ABE5-499F-9DBB-6A128E47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7939A-19E3-423C-9FF6-770F17F3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522E5-7238-4E8C-AE39-2BB3798F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40D6-22AD-48D2-B75C-4DAE6766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3E82B-33B2-4480-B4CF-AD510D00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7E148-EB90-49CC-AF13-983ADFCC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7C772-E32D-43C9-A925-4E9A3BE6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729A5-58C4-4A85-BC56-162D198D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D3244-AD41-4B42-9349-226CF65C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2413-B4FA-41CE-9D2C-DD99D5D9F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08E6B-BB0F-4696-A694-61A68329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EF27A-66CF-414C-BF69-D2A3085D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3F0E4-ECDD-47AD-82B5-659EAE6F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B7246-BFCA-4C87-ADDF-014D1251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A80DA-71EC-4F45-B794-1CA5F03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FD579-51F5-4B27-A0DA-6B11F7D4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9CCFD-DCD7-4C68-8797-FE246D33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52BCE-C678-44E4-ACB1-AAE3BC72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965F5-C78B-4A84-A829-E9CD9574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F06B8-7AF2-41BB-A0D2-24EA2B47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8BE4-5D57-427C-BE41-52C0A1A1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BCEF8-E18C-4514-8288-234E22A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F2FBE-CF1C-4A51-A224-CB3C41B6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1DCC6-550C-4250-8DF2-E99FBA89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80A90-9F30-40C2-9A69-AA9412E0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9CA7A-8D3A-4F9B-8CCA-071DC0F7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5FB-6DF8-440A-AE5F-A661DE7A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BB4F-F7F3-4CD4-8812-AEAFBBAF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CD5A-0BFC-42CA-B78C-D6363BEA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F8A-6EF6-4500-AF66-011ED5E6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C566-AFE6-4E2B-AE87-578EAF91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242-0159-48F4-800F-372D9D6E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11E9-BE0E-4650-B9F5-42CC2435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0D5B-1A72-4445-8973-49688A1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9330-9E9D-492B-B981-EACC5AF0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9CFA-2EA2-457F-9ADE-ED201523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9E7F-3EC3-47FF-95C9-38F9DF4B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6D85-E22B-4353-8DCE-E1E42158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C883-EAD1-4661-8205-2DEDADA8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1EF0-2420-4593-9DE7-32FCEE9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3C20-F030-4110-9A5A-0B382B95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1E5F-4623-4BB0-A302-91991563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53E-0476-4035-97E0-597AE894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3C8D-AF0E-420D-9345-F78C6D4E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B5A1-5513-4C16-98B8-4B2A586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BFD4-E585-4E31-80D4-1791613F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88F8-B1BA-456B-B004-211E42F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F58B8-BDB3-4648-9C11-7E8D681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F94A-F4A2-4779-B6AB-831B30B9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DAB7-5F0E-4060-993E-3C238227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0C9D-B686-4C7A-B3C3-CBE4F58B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B27E-2509-4BC7-BB3E-45C797F7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1A70-7928-445E-A38C-6C9B4F7F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BDE-CBB5-4B0C-A146-0F38CD4D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5F6B-8001-4567-AEB7-9EEBBB6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B53E-6797-4B67-995B-D6F50445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A895-29FD-485D-B457-09C64D7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70A2-0E8C-473B-8718-A6F0D8C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AA44-FE4B-4D9A-AD4F-A245F03E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DD8DC-F2E3-42D4-A36E-B4B2FC85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59167-F84C-4F58-A915-7D950F51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904E9-0337-4D85-9C20-86FDBE27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8609-2276-421C-B8A7-71D9D89A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04F2-BD57-4D3D-BB75-CB815C28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EA6-8E6E-45B9-A4D4-5D666B71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9AE8-5E4F-4C30-85DC-88F2BD44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416DE-25E7-4B68-A6F9-9751279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166AD-6330-4ED3-A90D-F715ADC3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CD32-5AB9-4C85-8A6C-9D553882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85517-9ADB-44D2-9FA8-497D6318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56FB1-580E-48C0-AD62-ADAF7385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1F33F-B8AE-403E-92CD-B035F40A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AF742-BD6C-4BEE-B2CE-BA851D3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1F98-0430-4936-BFAA-87DCC797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DCAE-AE9E-4A0D-8500-EACB2254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E39-9F58-41B2-B388-A79D1D0E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A4340-2773-45B8-A94D-733866E4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49CD0-3E86-422B-8945-E8A2B0B1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D1EC6-ABC5-4296-9C31-24650188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65A5E-E3E5-474C-9BDB-7F38034E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01158-065F-43F7-ADDD-0A6B7EAB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F232-B4DF-490D-B954-B6E0D2D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626A-C213-41F5-A949-B53365AB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D820A-005D-4589-B246-91A890B6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E04EE-8B4A-4153-823E-55EBD69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5731-3CF6-430D-8845-5FC7FC7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331-469E-4B1C-B21E-AA7FD4D5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A9471-8FE3-4B57-ACED-CCF485C5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39EA8-DDAF-4B17-8661-F96C78A0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ADCC6-B6BD-4058-9F87-45D3E84B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1414-8B5E-4663-932B-5D9EA061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E7D4-1A6B-45E8-9E56-06B0FC1B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50EE-FDDD-457E-9658-DA984D73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18EC3-63E9-49A1-8FEF-EB4495DE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71DC-4C0B-418E-ACBF-604DC98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FD8CD-F9EF-45C2-8A32-BBE8F003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8B3D9-4697-4AFA-9E34-649B87FB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D1D-60F8-4A28-B832-6316B7D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4BE5-C98A-4A86-80D7-846DC43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DB8AA-1156-4D89-ADBF-8D4D769E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6DFBE-A816-4C80-A7EB-0853626B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F070-4F28-40C7-8AC4-E7E7C36C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3493C-4BF1-4911-842E-1E063991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90FFD-C6DF-44C8-B7F7-172DA72F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8D9E5-6B4A-4835-9E4D-AC993082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938CB-A391-47BF-A890-F38C1DB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9630E-7CA4-498F-BEA9-5FC330C2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2B26A-7A7A-4316-93ED-923DA1E6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7DD-530F-4C21-ADA2-BF16018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1059F-1D83-40CC-9615-5AFCC1C5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38FF9-8C95-4B9F-B66A-E10F36F5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F9A2-0626-4ACA-82AE-9BA8679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208C-1058-493B-B83A-8310E86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1A66-781F-4AA8-8FD1-C3682D25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C5AB2-880F-43A6-B10D-A254622D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BE712-7EC9-4471-B895-B03E951D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A41F7-3DE0-4958-9E37-43B7D9BF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C5AAF-28C8-4826-8B40-AF2EF3FD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0529E-E909-4222-9E0D-D9FF070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BDB-4914-4C79-9A5A-C170B18A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0FDE-7CF6-4858-8F54-6DD6411AB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018F-03F4-46B1-B4E4-FC75390E1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44DE-E9C7-4797-8826-69A0354DD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B6C-7DBB-42D1-8521-0560FAB7D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F657-8D0B-4DFC-BCBA-3EE07821A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AF2-5271-4983-8496-9A895D2D2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B8CB-BCE8-45B2-8CD6-1D91B9651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61A6-878D-431B-8D0B-10529C69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6398-F42A-41E0-B6FD-BE187BC1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1072-27EE-4E24-9BAD-E90D23B57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498-7492-4010-89FB-9E5039C77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1.png"/><Relationship Id="rId7" Type="http://schemas.openxmlformats.org/officeDocument/2006/relationships/slide" Target="slide8.xml"/><Relationship Id="rId8" Type="http://schemas.openxmlformats.org/officeDocument/2006/relationships/slide" Target=""/><Relationship Id="rId9" Type="http://schemas.openxmlformats.org/officeDocument/2006/relationships/image" Target="../media/image1.png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image" Target="../media/image1.png"/><Relationship Id="rId13" Type="http://schemas.openxmlformats.org/officeDocument/2006/relationships/slide" Target="slide10.xml"/><Relationship Id="rId14" Type="http://schemas.openxmlformats.org/officeDocument/2006/relationships/slide" Target=""/><Relationship Id="rId15" Type="http://schemas.openxmlformats.org/officeDocument/2006/relationships/image" Target="../media/image1.png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image" Target="../media/image1.png"/><Relationship Id="rId19" Type="http://schemas.openxmlformats.org/officeDocument/2006/relationships/slide" Target="slide14.xml"/><Relationship Id="rId20" Type="http://schemas.openxmlformats.org/officeDocument/2006/relationships/slide" Target=""/><Relationship Id="rId21" Type="http://schemas.openxmlformats.org/officeDocument/2006/relationships/image" Target="../media/image1.png"/><Relationship Id="rId22" Type="http://schemas.openxmlformats.org/officeDocument/2006/relationships/slide" Target="slide16.xml"/><Relationship Id="rId23" Type="http://schemas.openxmlformats.org/officeDocument/2006/relationships/slide" Target=""/><Relationship Id="rId24" Type="http://schemas.openxmlformats.org/officeDocument/2006/relationships/image" Target="../media/image1.png"/><Relationship Id="rId25" Type="http://schemas.openxmlformats.org/officeDocument/2006/relationships/slide" Target="slide18.xml"/><Relationship Id="rId26" Type="http://schemas.openxmlformats.org/officeDocument/2006/relationships/slide" Target=""/><Relationship Id="rId27" Type="http://schemas.openxmlformats.org/officeDocument/2006/relationships/image" Target="../media/image1.png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image" Target="../media/image1.png"/><Relationship Id="rId31" Type="http://schemas.openxmlformats.org/officeDocument/2006/relationships/slide" Target="slide22.xml"/><Relationship Id="rId32" Type="http://schemas.openxmlformats.org/officeDocument/2006/relationships/slide" Target=""/><Relationship Id="rId33" Type="http://schemas.openxmlformats.org/officeDocument/2006/relationships/image" Target="../media/image1.png"/><Relationship Id="rId34" Type="http://schemas.openxmlformats.org/officeDocument/2006/relationships/slide" Target="slide24.xml"/><Relationship Id="rId35" Type="http://schemas.openxmlformats.org/officeDocument/2006/relationships/slide" Target=""/><Relationship Id="rId36" Type="http://schemas.openxmlformats.org/officeDocument/2006/relationships/image" Target="../media/image1.png"/><Relationship Id="rId37" Type="http://schemas.openxmlformats.org/officeDocument/2006/relationships/slide" Target="slide26.xml"/><Relationship Id="rId38" Type="http://schemas.openxmlformats.org/officeDocument/2006/relationships/slide" Target=""/><Relationship Id="rId39" Type="http://schemas.openxmlformats.org/officeDocument/2006/relationships/image" Target="../media/image1.png"/><Relationship Id="rId40" Type="http://schemas.openxmlformats.org/officeDocument/2006/relationships/slide" Target="slide28.xml"/><Relationship Id="rId41" Type="http://schemas.openxmlformats.org/officeDocument/2006/relationships/slide" Target=""/><Relationship Id="rId42" Type="http://schemas.openxmlformats.org/officeDocument/2006/relationships/image" Target="../media/image1.png"/><Relationship Id="rId43" Type="http://schemas.openxmlformats.org/officeDocument/2006/relationships/slide" Target="slide30.xml"/><Relationship Id="rId44" Type="http://schemas.openxmlformats.org/officeDocument/2006/relationships/slide" Target=""/><Relationship Id="rId45" Type="http://schemas.openxmlformats.org/officeDocument/2006/relationships/image" Target="../media/image1.png"/><Relationship Id="rId46" Type="http://schemas.openxmlformats.org/officeDocument/2006/relationships/slide" Target="slide32.xml"/><Relationship Id="rId47" Type="http://schemas.openxmlformats.org/officeDocument/2006/relationships/slide" Target=""/><Relationship Id="rId48" Type="http://schemas.openxmlformats.org/officeDocument/2006/relationships/image" Target="../media/image1.png"/><Relationship Id="rId49" Type="http://schemas.openxmlformats.org/officeDocument/2006/relationships/slide" Target="slide34.xml"/><Relationship Id="rId50" Type="http://schemas.openxmlformats.org/officeDocument/2006/relationships/image" Target="../media/image1.png"/><Relationship Id="rId51" Type="http://schemas.openxmlformats.org/officeDocument/2006/relationships/slide" Target="slide36.xml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uzzthru.wav" TargetMode="External"/><Relationship Id="rId5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" action="ppaction://hlinksldjump"/>
              </a:rPr>
              <a:t>$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5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7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8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0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11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1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9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2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22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23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25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2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28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2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1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3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3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7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38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0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4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4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4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9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51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Impact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Impact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Impact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58128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quatio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685800" y="2900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(-12)(6) + 1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447920" y="210348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-71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1447920" y="22546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olution to 7 = n - 1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447920" y="25142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2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4556160" y="2959560"/>
            <a:ext cx="18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838080" y="615960"/>
            <a:ext cx="723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ymbol that makes an equation different from an expressio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990720" y="1814400"/>
            <a:ext cx="71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an equals sig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6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447920" y="225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The solution to = 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2666880" y="30481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666880" y="39006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462320" y="2971440"/>
            <a:ext cx="583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7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2209680" y="1675080"/>
            <a:ext cx="49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olution to k  -  7 = 3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447920" y="27428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4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281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(10) (-2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7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600200" y="1447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914400" y="201168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olution to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x  – 7 = -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447920" y="27428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5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3984480" y="2141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2286000" y="160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1371600" y="1446840"/>
            <a:ext cx="624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hat you should draw to solve an integer applic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685800" y="1403640"/>
            <a:ext cx="7696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a picture or numberli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984480" y="2141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286000" y="160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0" y="303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A submarine is at an elevation o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-330 feet. How far is the distance from where the submarine is to the surface ( 0 ft)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762120" y="207324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330 feet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2"/>
          <p:cNvSpPr/>
          <p:nvPr/>
        </p:nvSpPr>
        <p:spPr>
          <a:xfrm>
            <a:off x="609480" y="-87480"/>
            <a:ext cx="815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It was 75</a:t>
            </a:r>
            <a:r>
              <a:rPr b="1" lang="en-US" sz="72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 at noon. In the evening, the temperature was 59</a:t>
            </a:r>
            <a:r>
              <a:rPr b="1" lang="en-US" sz="72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. How much did the temperature drop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24400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16 degree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04920" y="8892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A group of students were climbing from a starting elevation of 130 feet. If they climbed up 250 feet and then back down 250 feet, what is their new elevat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514600" y="1828800"/>
            <a:ext cx="4800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130 feet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1371600" y="233640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-2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457200" y="151560"/>
            <a:ext cx="82296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temperature on Monday was 40. If the temperature falls 10 degrees each day after, what will the temperature be on Saturda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2777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-1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3984480" y="2141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2286000" y="160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1523880" y="220896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solution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M – 5 =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1447920" y="210348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14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90720" y="2106720"/>
            <a:ext cx="6705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solution to</a:t>
            </a: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24 = D + 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3311280" y="2881080"/>
            <a:ext cx="25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D = 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447920" y="277632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Z + 9 = 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2634480" y="2043000"/>
            <a:ext cx="387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33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447920" y="225792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The solution to 40 =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5638680" y="3048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x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0"/>
          <p:cNvSpPr/>
          <p:nvPr/>
        </p:nvSpPr>
        <p:spPr>
          <a:xfrm>
            <a:off x="5715000" y="39625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634480" y="2043000"/>
            <a:ext cx="387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20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Object 13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14"/>
          <p:cNvSpPr/>
          <p:nvPr/>
        </p:nvSpPr>
        <p:spPr>
          <a:xfrm>
            <a:off x="228600" y="1300320"/>
            <a:ext cx="8669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The rule when you multiply or divide integer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5">
            <a:hlinkClick r:id="rId3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6">
            <a:hlinkClick r:id="rId4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447920" y="28054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F – 45 = 1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1657440" y="2712600"/>
            <a:ext cx="583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6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222660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The mean of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4, 5,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4205160" y="2714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228600" y="2132640"/>
            <a:ext cx="86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first operation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do when finding a me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2212920" y="2043000"/>
            <a:ext cx="471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additi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1447920" y="39492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imes New Roman"/>
              </a:rPr>
              <a:t>The second operation you do when finding a mea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838080" y="210996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divisi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1447920" y="24382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he mean of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6, 9, 15, 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3945960" y="271260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1676520" y="1185840"/>
            <a:ext cx="620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two negatives or no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1447920" y="234684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The mean of 65, 75, 95, and 10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1447920" y="2777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85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47920" y="19803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hat you must do to a subtraction probl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914400" y="718200"/>
            <a:ext cx="777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Change to addition of the opposit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371600" y="25138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-7 + 14 + 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447920" y="21049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5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honda</cp:lastModifiedBy>
  <dcterms:modified xsi:type="dcterms:W3CDTF">2011-06-06T07:15:40Z</dcterms:modified>
  <cp:revision>54</cp:revision>
  <dc:subject/>
  <dc:title>No Slide Title</dc:title>
</cp:coreProperties>
</file>